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EC5E-F841-4E59-ADBC-7F36D4E7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7883-6C08-4F78-8F2E-D3089B69A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B5AB-EC6F-409B-851F-2D2B6228D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B31E-0426-420F-8F22-DE9DC11FB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CFC8-021E-4460-B954-C0C2A3054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D3A3-481A-4253-8E56-2A7362AF7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C879-5E97-4335-A827-C49F76583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527C-FBF3-4157-B25F-3FD2ED83C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012C-EE4A-4992-A26A-49022ABD8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2BF7-8CB1-4624-B696-F9612E772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D843-DE4D-4EDB-A3F1-D7C522410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DA9F-DE71-4CBD-AEEE-90B85F7AE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632C57-BD0D-4A22-8763-5E8E7CCA0EB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TOMAN EL OXÍGENO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 DEL AGUA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23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55" name="AutoShape 7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4"/>
            <p:cNvSpPr/>
            <p:nvPr/>
          </p:nvSpPr>
          <p:spPr>
            <a:xfrm>
              <a:off x="3563640" y="1483920"/>
              <a:ext cx="19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N EL AGU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25 Grupo"/>
          <p:cNvGrpSpPr/>
          <p:nvPr/>
        </p:nvGrpSpPr>
        <p:grpSpPr>
          <a:xfrm>
            <a:off x="900000" y="4221000"/>
            <a:ext cx="2159280" cy="1224000"/>
            <a:chOff x="900000" y="4221000"/>
            <a:chExt cx="2159280" cy="1224000"/>
          </a:xfrm>
        </p:grpSpPr>
        <p:sp>
          <p:nvSpPr>
            <p:cNvPr id="58" name="AutoShape 9"/>
            <p:cNvSpPr/>
            <p:nvPr/>
          </p:nvSpPr>
          <p:spPr>
            <a:xfrm>
              <a:off x="900000" y="4221000"/>
              <a:ext cx="2159280" cy="122400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5"/>
            <p:cNvSpPr/>
            <p:nvPr/>
          </p:nvSpPr>
          <p:spPr>
            <a:xfrm>
              <a:off x="971640" y="4365000"/>
              <a:ext cx="19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A TRAVÉS DE LA SUPERFICIE DEL CUER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24 Grupo"/>
          <p:cNvGrpSpPr/>
          <p:nvPr/>
        </p:nvGrpSpPr>
        <p:grpSpPr>
          <a:xfrm>
            <a:off x="6012000" y="4221000"/>
            <a:ext cx="2160360" cy="1224000"/>
            <a:chOff x="6012000" y="4221000"/>
            <a:chExt cx="2160360" cy="1224000"/>
          </a:xfrm>
        </p:grpSpPr>
        <p:sp>
          <p:nvSpPr>
            <p:cNvPr id="61" name="AutoShape 8"/>
            <p:cNvSpPr/>
            <p:nvPr/>
          </p:nvSpPr>
          <p:spPr>
            <a:xfrm>
              <a:off x="6012000" y="4221000"/>
              <a:ext cx="2160360" cy="122400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156000" y="44384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POR BRANQUI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AutoShape 19"/>
          <p:cNvSpPr/>
          <p:nvPr/>
        </p:nvSpPr>
        <p:spPr>
          <a:xfrm>
            <a:off x="3348000" y="2852640"/>
            <a:ext cx="2376360" cy="432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843280" y="558972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36 Grupo"/>
          <p:cNvGrpSpPr/>
          <p:nvPr/>
        </p:nvGrpSpPr>
        <p:grpSpPr>
          <a:xfrm>
            <a:off x="1908000" y="2349360"/>
            <a:ext cx="5257800" cy="1873440"/>
            <a:chOff x="1908000" y="2349360"/>
            <a:chExt cx="5257800" cy="1873440"/>
          </a:xfrm>
        </p:grpSpPr>
        <p:grpSp>
          <p:nvGrpSpPr>
            <p:cNvPr id="67" name="26 Grupo"/>
            <p:cNvGrpSpPr/>
            <p:nvPr/>
          </p:nvGrpSpPr>
          <p:grpSpPr>
            <a:xfrm>
              <a:off x="1908000" y="2853000"/>
              <a:ext cx="5257800" cy="1369800"/>
              <a:chOff x="1908000" y="2853000"/>
              <a:chExt cx="5257800" cy="136980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1908000" y="3932280"/>
                <a:ext cx="5256360" cy="1440"/>
              </a:xfrm>
              <a:custGeom>
                <a:avLst/>
                <a:gdLst>
                  <a:gd name="textAreaLeft" fmla="*/ 0 w 5256360"/>
                  <a:gd name="textAreaRight" fmla="*/ 5256720 w 5256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602" h="5">
                    <a:moveTo>
                      <a:pt x="0" y="0"/>
                    </a:moveTo>
                    <a:lnTo>
                      <a:pt x="14601" y="4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1908000" y="3930840"/>
                <a:ext cx="1440" cy="29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6" h="813">
                    <a:moveTo>
                      <a:pt x="0" y="812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7164360" y="3930840"/>
                <a:ext cx="1440" cy="29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5" h="813">
                    <a:moveTo>
                      <a:pt x="0" y="812"/>
                    </a:moveTo>
                    <a:lnTo>
                      <a:pt x="4" y="0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Text Box 20"/>
              <p:cNvSpPr/>
              <p:nvPr/>
            </p:nvSpPr>
            <p:spPr>
              <a:xfrm>
                <a:off x="3419280" y="2853000"/>
                <a:ext cx="23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se realiz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" name="32 Conector recto"/>
            <p:cNvSpPr/>
            <p:nvPr/>
          </p:nvSpPr>
          <p:spPr>
            <a:xfrm>
              <a:off x="4499640" y="2349360"/>
              <a:ext cx="0" cy="504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34 Conector recto"/>
            <p:cNvSpPr/>
            <p:nvPr/>
          </p:nvSpPr>
          <p:spPr>
            <a:xfrm>
              <a:off x="4499640" y="3285360"/>
              <a:ext cx="0" cy="64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2974680" cy="381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5"/>
            <p:cNvSpPr/>
            <p:nvPr/>
          </p:nvSpPr>
          <p:spPr>
            <a:xfrm>
              <a:off x="984240" y="90360"/>
              <a:ext cx="686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8"/>
          <p:cNvSpPr/>
          <p:nvPr/>
        </p:nvSpPr>
        <p:spPr>
          <a:xfrm>
            <a:off x="539640" y="1341360"/>
            <a:ext cx="82090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animales que viven en el agua o en medios muy húmedos, como el interior d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animales que realizan esta respiración son las esponjas, los cnidarios (pólipos y medusas), los gusanos y algunos anfib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82692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a través de la superficie del cue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46560" y="457668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El animal toma O</a:t>
            </a:r>
            <a:r>
              <a:rPr b="0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 través de la superficie del cuer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88000" y="5165640"/>
            <a:ext cx="30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El animal expulsa CO</a:t>
            </a:r>
            <a:r>
              <a:rPr b="0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a través de la superficie del cuer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924360" y="278136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643280" y="2833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211640" y="27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932360" y="28335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898560" y="533700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a través de la superficie del cuerpo en un anéli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240000" y="2700360"/>
            <a:ext cx="9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o húme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940360" y="3240000"/>
            <a:ext cx="90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perficie del cuer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5357880" y="3371760"/>
            <a:ext cx="584280" cy="85680"/>
          </a:xfrm>
          <a:custGeom>
            <a:avLst/>
            <a:gdLst>
              <a:gd name="textAreaLeft" fmla="*/ 0 w 584280"/>
              <a:gd name="textAreaRight" fmla="*/ 584640 w 5842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624" h="239">
                <a:moveTo>
                  <a:pt x="1623" y="23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132000" y="3005280"/>
            <a:ext cx="2519640" cy="32320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984240" y="90360"/>
              <a:ext cx="686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8"/>
          <p:cNvSpPr/>
          <p:nvPr/>
        </p:nvSpPr>
        <p:spPr>
          <a:xfrm>
            <a:off x="539640" y="1413000"/>
            <a:ext cx="82090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áminas o filamentos muy finos y llenos de capi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íquidos circulantes pasan por ellos, y allí intercambian el dióxido de carbono del interior con el oxígeno d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ropios de moluscos acuáticos, crustáceos, peces y algunos anfib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branqu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348000" y="3141720"/>
            <a:ext cx="1944720" cy="119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2852640" y="2948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Sangre con 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8720" y="2916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Sangre con 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771640" y="3573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124000" y="5076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Agua rica en O</a:t>
            </a:r>
            <a:r>
              <a:rPr b="1" lang="es-ES" sz="1000" spc="-1" strike="noStrike">
                <a:solidFill>
                  <a:srgbClr val="00b0f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356000" y="50133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Agua rica en CO</a:t>
            </a:r>
            <a:r>
              <a:rPr b="1" lang="es-E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083280" y="5189400"/>
            <a:ext cx="223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a través de branquias de un pez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365720" y="350820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6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4583160" y="3141720"/>
            <a:ext cx="539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6:48Z</dcterms:modified>
  <cp:revision>8</cp:revision>
  <dc:subject/>
  <dc:title>Presentación de PowerPoint</dc:title>
</cp:coreProperties>
</file>